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26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0.png" ContentType="image/png"/>
  <Override PartName="/ppt/media/image42.jpeg" ContentType="image/jpeg"/>
  <Override PartName="/ppt/media/image51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50.jpeg" ContentType="image/jpeg"/>
  <Override PartName="/ppt/media/image27.jpeg" ContentType="image/jpeg"/>
  <Override PartName="/ppt/media/image31.png" ContentType="image/png"/>
  <Override PartName="/ppt/media/image47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56A1-2911-42F7-9BD7-822B043C47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99B0-22EA-4617-86CA-9DAD0B20E8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53B7-2184-4194-B315-E1D526EF82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CBAB-444A-4169-B037-760E6557FC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E417-26F6-4CF2-BDC5-2BBA3FB989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9B0D-518A-4101-9CDD-137D00933E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6B5B-DD22-4AF1-8D40-A2F6A3EC75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D0CC-7CE2-4DDC-872E-EB39AD0A00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DCB-7105-48AA-8618-B81E0DD1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6B6-AF56-4042-A23B-F6E8E31C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4EC-6D45-418F-866F-B4D18CDB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C5C-33B3-44BD-A5CB-5A0E2A81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9134-DDD2-4C20-9FCE-A57F517A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7340-8520-4FB1-A694-9B6A3424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7333-76EF-4BAD-93B4-C9EE3BE7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B758-5948-4AF0-9C8A-7BE89283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EFD0-B2E1-4964-B402-AC18ECF3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68FA-D7E3-4969-A8D4-250F7F8C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0E96-CDD7-4F32-97AF-995F52DE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107-F37D-4706-9BA3-C967A6D5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3030-8F4F-43B7-A75B-ECE305AF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56A2-5145-41BB-BDD5-B3A9418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A69F-4454-4A68-89DA-3A4DB318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E843-8A17-4E6B-B579-DEEB3E6A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7D1D-1827-4EF0-9553-A0A9ECFB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E0DC-7654-40F6-A367-5A225734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E50F-6654-4211-AD66-7B2DF291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3BA5-5D2D-4AC7-96F1-319F574C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CB5F-4C8A-4673-83F5-6343DDB4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9852-D56D-4EC3-9B0A-8438C793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22B-E357-45A2-BC9B-876DCBD1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02F6-151E-4580-8A9B-9CE0BC78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37E4-B8EA-4F05-9337-34BDC056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DE02-0F20-47E2-83D0-C532AB87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22CA-4ABB-434F-A7B9-89B9EC7D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D8F1-60CA-4532-8328-F3110720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108B-B1A2-40E3-B9D9-2B00A734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F3EA-C064-4C0C-9DF0-5ED105E4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F813-4740-4B75-A734-60B2196F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7F5AB-07A7-49E5-ADC4-02277FA6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1500E-3BF4-4CB0-941B-F8E64CCE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669-80E0-494E-A016-85C5D94C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A8C3-1EA2-4119-B4AC-10F7EFB8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086AD-2798-48F2-9BF3-F951373A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AE89-91AE-4077-B018-7F4C98FA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0A4E5-9ED9-42F2-B668-B02A22A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72473-6014-4CA5-B3CF-5210F44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4C74B-C9F9-4D55-9D83-D187E682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0ABD-99FE-441E-B4A5-483E7EDF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4D2E-A6C0-42E8-9459-AD2863E8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7595E-CBBC-4A97-929B-ECAD92A7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A644-AF7C-4861-81BD-2CFF7B09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391-37A8-42BA-8718-03DBA034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D0710-23DC-4120-80B3-86274ACD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6B174-372A-4047-B84F-2177E3ED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8157C-1370-47FD-B208-D0301CA2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02CFE-9428-4467-84CD-4B0B937B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D776F-D74D-48FC-B0D6-7EC8F55F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EFD24-05FB-4390-9267-48D4A52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92C0-42DB-48C8-9E6D-DDCB30D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EEFE-9F74-449B-9A96-08ECD03E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D0E12-8663-48C0-914A-305AA247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E77FF-5101-42A3-BF79-CF7674A4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BC1-9142-40A7-936E-626748A9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055F9-B65A-4F1F-A76F-CE0DDFDB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0E3B6-F40D-426A-A2E7-7BA67EC0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88C6-5CC1-4094-923F-03393010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C5EE3-B11F-4FFA-AAB3-0950841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6F06-ED1B-471E-A2C2-6B326F6F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1D5B5-630E-4233-91F9-F0A90C69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53FEA-F23E-4F38-BDE2-435B634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C5D96-1FDD-4738-9FCB-A3EF8908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D4F92-10D0-41D5-88BF-6FA0F57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C4F74-AD10-4F6B-A788-6DE53F10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718-7AE0-418D-9E79-388A90F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8A2E3-50D8-4EC6-ACA7-86EF307D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2B6CC-8CB9-42CC-A1D9-B3CF5189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656C7-A910-4AD0-A1AE-EE79D676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94134-5055-4B27-BD53-C97DFB91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9560C-E6DF-4662-B2A5-E11112F8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59F11-CF6D-40F2-9E39-538EB22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466AF-EAFE-4B5B-B1C8-A9560DD8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EA88A-F253-4735-B961-A11161B7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2A69-212F-4BF4-AF85-E34C86ED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81AE2-571C-41A2-BC17-49F8202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BBE-98B5-4D1A-8A68-38E08622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BA1EF-6566-407E-A76F-B91ED26D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335C4-A001-4946-A211-875ECA56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9FB88-F6B5-48B1-8A8F-9F3CE152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AA136-CE51-4C94-AEF8-09DD5360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F9E24-C122-49DA-A6C4-7FC3C82E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2A9E5-C5E2-4311-AA8D-42EAF00E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E9D02-980E-4A0E-AE6F-BB867948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3F1E6-6C8E-461C-8F1A-062C69AA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B9606-B204-4F48-94BF-F1C13021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4F2BE-9868-4121-86FD-10A91EE1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707-E0AC-4FC6-B3BF-7D209FE0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59D23-E132-434E-9E1E-A8E99083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38B86-3A67-4AD3-BFB2-F2CE88B7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E8A85-F68B-41F3-93CC-76F4B3C9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7AE57-0884-42D6-B61D-315BC94C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DEE45-2205-4F62-8A6E-965C345F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32149-B140-4FCC-874D-4DE0310F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E7A3-B223-491F-95CA-BE9A0D22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18E7-1F24-4A5F-86B0-5E6858964D6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F126-C62F-4B09-B165-01FEC4CA292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6B64-7853-4C78-AA0B-98D76935F65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F075-5439-4B86-80E2-7414D9DAB54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4492-E4F1-446A-A1F0-6FCBA277DE3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A053-4307-4C9E-844D-0DE25CAC473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0F65-218A-4B92-961F-C83ED2DB85D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2AE5-3437-4944-852F-86BE6F242FA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8;&#1086;&#1076;&#1080;&#1090;&#1077;&#1083;&#1100;&#1089;&#1082;&#1086;&#1077;%20&#1089;&#1086;&#1073;&#1088;&#1072;&#1085;&#1080;&#1077;%20&#1074;%209%20&#1082;&#1083;&#1072;&#1089;&#1089;&#1077;%20&#1087;&#1086;&#1076;&#1075;&#1086;&#1090;&#1086;&#1074;&#1082;&#1072;%20&#1082;%20&#1075;&#1080;&#1072;&amp;noreask=1&amp;img_url=uoelektrostal.ru%2FResources%2FPhoto%2Fgia.jpg&amp;pos=0&amp;rpt=simage&amp;lr=22&amp;nojs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8" name="Picture 5" descr="i?id=275083986-5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556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399" name="Заголовок 1"/>
          <p:cNvSpPr/>
          <p:nvPr/>
        </p:nvSpPr>
        <p:spPr>
          <a:xfrm>
            <a:off x="324000" y="155736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Monotype Corsiva"/>
              </a:rPr>
              <a:t>Родительское собрание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Заголовок 1"/>
          <p:cNvSpPr/>
          <p:nvPr/>
        </p:nvSpPr>
        <p:spPr>
          <a:xfrm>
            <a:off x="5076720" y="6453360"/>
            <a:ext cx="406728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Классный руководитель Нестеренко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rcRect l="7755" t="17864" r="9401" b="25901"/>
          <a:stretch/>
        </p:blipFill>
        <p:spPr>
          <a:xfrm rot="20698800">
            <a:off x="395280" y="1267920"/>
            <a:ext cx="2824200" cy="2376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2"/>
          <a:srcRect l="7810" t="10172" r="9633" b="7785"/>
          <a:stretch/>
        </p:blipFill>
        <p:spPr>
          <a:xfrm rot="711000">
            <a:off x="5866920" y="1197000"/>
            <a:ext cx="2824200" cy="2376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"/>
          <p:cNvPicPr/>
          <p:nvPr/>
        </p:nvPicPr>
        <p:blipFill>
          <a:blip r:embed="rId3"/>
          <a:srcRect l="7754" t="15297" r="9400" b="7786"/>
          <a:stretch/>
        </p:blipFill>
        <p:spPr>
          <a:xfrm>
            <a:off x="611280" y="4221000"/>
            <a:ext cx="2825640" cy="21193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"/>
          <p:cNvPicPr/>
          <p:nvPr/>
        </p:nvPicPr>
        <p:blipFill>
          <a:blip r:embed="rId4"/>
          <a:srcRect l="7755" t="17864" r="9401" b="10541"/>
          <a:stretch/>
        </p:blipFill>
        <p:spPr>
          <a:xfrm>
            <a:off x="6012000" y="4292640"/>
            <a:ext cx="2825640" cy="21193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Подготовка к ГИА по математике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7" name="Picture 7" descr=""/>
          <p:cNvPicPr/>
          <p:nvPr/>
        </p:nvPicPr>
        <p:blipFill>
          <a:blip r:embed="rId5"/>
          <a:srcRect l="30864" t="10162" r="30705" b="7776"/>
          <a:stretch/>
        </p:blipFill>
        <p:spPr>
          <a:xfrm>
            <a:off x="3851280" y="981000"/>
            <a:ext cx="1751040" cy="25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6"/>
          <a:srcRect l="30864" t="9951" r="30705" b="7992"/>
          <a:stretch/>
        </p:blipFill>
        <p:spPr>
          <a:xfrm>
            <a:off x="3851280" y="3716280"/>
            <a:ext cx="16574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бадривайте детей, хвалите их за то, что они делают хорош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айте их уверенность в себе, так как чем больше ребенок боится неудачи, тем более вероятности допущения ошибо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блюдайте за самочувствием ребенка, никто, кроме Вас, не сможет вовремя заметить и предотвратить ухудшение состояние ребенка, связанное с переутомл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тролируйте режим подготовки ребенка, не допускайте перегрузок, объясните ему, что он обязательно должен чередовать занятия с отдых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ьте дома удобное место для занятий, проследите, чтобы никто из домашних не мешал.- Обратите внимание на питание ребенка: во время интенсивного умственного напряжения ему необходима питательная и разнообразная пища и сбалансированный комплекс витаминов. Такие продукты, как рыба, творог, орехи, курага и т.д. стимулируют работу головного мозг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могите детям распределить темы подготовки по дня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знакомьте ребенка с методикой подготовки к экзаменам. Не имеет смысла зазубривать весь фактический материал, достаточно просмотреть ключевые моменты и уловить смысл и логику материала. Очень полезно делать краткие схематические выписки и таблицы, упорядочивая изучаемый материал по плану. Если он не умеет, покажите ему, как это делается на практике. Основные формулы и определения можно выписать на листочках и повесить над письменным столом, над кроватью, в столовой и т.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дготовьте различные варианты тестовых заданий по предмету (сейчас существует множество различных сборников тестовых заданий). Большое значение имеет тренаж ребенка именно по тестированию, ведь эта форма отличается от привычных ему письменных и устных экзамен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ранее во время тренировки по тестовым заданиям приучайте ребенка ориентироваться во времени и уметь его распределять. Тогда у ребенка будет навык умения концентрироваться на протяжении всего тестирования, что придаст ему спокойствие и снимет излишнюю тревожность. Если ребенок не носит часов, обязательно дайте ему часы на экзамен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кануне экзамена обеспечьте ребенку полноценный отдых, он должен отдохнуть и как следует выспатьс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оветуйте детям во время экзамена обратить внимание на следующее: пробежать глазами весь тест, чтобы увидеть, какого типа задания в нем содержатся, это поможет настроиться на работу; внимательно прочитать вопрос до конца и понять его смысл (характерная ошибка во время тестирования не дочитав до конца, по первым словам уже предполагают ответ и торопятся его вписать); если не знаешь ответа на вопрос или не уверен, пропусти его и отметь, чтобы потом к нему вернуться; если не смог в течение отведенного времени ответить на вопрос, есть смысл положиться на свою интуицию и указать наиболее вероятный вариан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Рекомендации родителям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тревожьтесь о количестве баллов, которые ребенок получит на экзамене, и не критикуйте ребенка после экзамена. Внушайте ребенку мысль, что количество баллов не является совершенным измерением его возможност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повышайте тревожность ребенка накануне экзаменов - это может отрицательно сказаться на результате тестирования. Ребенку всегда передается волнение родителей, и если взрослые в ответственный момент могут справиться со своими эмоциями, то ребенок в силу возрастных особенностей может эмоционально "сорваться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 помните: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самое главное</a:t>
            </a:r>
            <a:r>
              <a:rPr b="1" lang="ru-RU" sz="3200" spc="-1" strike="noStrike">
                <a:solidFill>
                  <a:srgbClr val="0000cc"/>
                </a:solidFill>
                <a:latin typeface="Constantia"/>
              </a:rPr>
              <a:t> - это снизить напряжение и тревожность ребенка и обеспечить подходящие условия для занятий.</a:t>
            </a:r>
            <a:r>
              <a:rPr b="0" lang="ru-RU" sz="3200" spc="-1" strike="noStrike">
                <a:solidFill>
                  <a:srgbClr val="0000cc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Итоги  </a:t>
            </a:r>
            <a:r>
              <a:rPr b="1" lang="en-US" sz="3600" spc="-1" strike="noStrike">
                <a:solidFill>
                  <a:srgbClr val="002060"/>
                </a:solidFill>
                <a:latin typeface="Monotype Corsiva"/>
              </a:rPr>
              <a:t>II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четверт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428760" y="1214280"/>
          <a:ext cx="8429400" cy="4903920"/>
        </p:xfrm>
        <a:graphic>
          <a:graphicData uri="http://schemas.openxmlformats.org/drawingml/2006/table">
            <a:tbl>
              <a:tblPr/>
              <a:tblGrid>
                <a:gridCol w="1377720"/>
                <a:gridCol w="2351160"/>
                <a:gridCol w="1944720"/>
                <a:gridCol w="27558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кончи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а «5»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кончи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а  «4» и 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кончи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 одной 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Более одной «3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457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Мешкова Ю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Жданова Наст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Стош Наст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Левичев Макс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(русский язы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Мамышев Фар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(Русский язы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Оганян Диана (геометрия)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1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bed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Количество «3»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428760" y="1143000"/>
          <a:ext cx="8229600" cy="4726080"/>
        </p:xfrm>
        <a:graphic>
          <a:graphicData uri="http://schemas.openxmlformats.org/drawingml/2006/table">
            <a:tbl>
              <a:tblPr/>
              <a:tblGrid>
                <a:gridCol w="3357360"/>
                <a:gridCol w="1643040"/>
                <a:gridCol w="1571760"/>
                <a:gridCol w="165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класс (го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класс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класс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лексеев Гер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мбарцумов Владисл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абийчук Нико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огданов Макс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олкова 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лухоедов Ро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упленко Владисл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рёменко Анд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Жданова Анаста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иброва Екате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6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олотницына Александ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5"/>
          <p:cNvSpPr/>
          <p:nvPr/>
        </p:nvSpPr>
        <p:spPr>
          <a:xfrm>
            <a:off x="1371600" y="2286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900000" y="9079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Monotype Corsiva"/>
              </a:rPr>
              <a:t>Родительское собрание №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Monotype Corsiva"/>
              </a:rPr>
              <a:t>«Нормативные документы по сдаче ГИА» «Особенности подросткового возраста: профилактика  суици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179280" y="41112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9 «Б» класс,  МАОУ СОШ №45,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"/>
          <p:cNvSpPr/>
          <p:nvPr/>
        </p:nvSpPr>
        <p:spPr>
          <a:xfrm>
            <a:off x="2116080" y="3573360"/>
            <a:ext cx="6107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«Родители  являются  первыми  педагогами. Они  обязаны  заложить  основы  физического,  нравственного и интеллектуального  развития  личности ребенка  в  раннем  возраст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(Статья 18 Закона Р.Ф. «Об образовани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Количество «3»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428760" y="1143000"/>
          <a:ext cx="8229600" cy="3983040"/>
        </p:xfrm>
        <a:graphic>
          <a:graphicData uri="http://schemas.openxmlformats.org/drawingml/2006/table">
            <a:tbl>
              <a:tblPr/>
              <a:tblGrid>
                <a:gridCol w="3357360"/>
                <a:gridCol w="1643040"/>
                <a:gridCol w="1571760"/>
                <a:gridCol w="165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класс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класс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валёв Дмит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вичев Макс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мышев Фа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шкова Ю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онова Виктор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еник Владисл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анян Ди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ченко Арт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денец Де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Количество «3»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28760" y="1143000"/>
          <a:ext cx="8229600" cy="2868480"/>
        </p:xfrm>
        <a:graphic>
          <a:graphicData uri="http://schemas.openxmlformats.org/drawingml/2006/table">
            <a:tbl>
              <a:tblPr/>
              <a:tblGrid>
                <a:gridCol w="3357360"/>
                <a:gridCol w="1643040"/>
                <a:gridCol w="1571760"/>
                <a:gridCol w="165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класс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класс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одумова Кс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кус 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анян Ишх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ш Анаста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рамова Жа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4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Сравнительная таблица итогов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28760" y="2214720"/>
          <a:ext cx="8229600" cy="3260520"/>
        </p:xfrm>
        <a:graphic>
          <a:graphicData uri="http://schemas.openxmlformats.org/drawingml/2006/table">
            <a:tbl>
              <a:tblPr/>
              <a:tblGrid>
                <a:gridCol w="3357360"/>
                <a:gridCol w="1643040"/>
                <a:gridCol w="1571760"/>
                <a:gridCol w="16574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класс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класс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личник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орошист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«3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 «3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йтинг учащихся 9 Б класса по итогам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</a:t>
            </a:r>
            <a:r>
              <a:rPr b="1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четвер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48" name="Picture 490" descr=""/>
          <p:cNvPicPr/>
          <p:nvPr/>
        </p:nvPicPr>
        <p:blipFill>
          <a:blip r:embed="rId1"/>
          <a:srcRect l="16584" t="25295" r="54774" b="20950"/>
          <a:stretch/>
        </p:blipFill>
        <p:spPr>
          <a:xfrm>
            <a:off x="2484360" y="1125360"/>
            <a:ext cx="44672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йтинг учащихся 9 Б класса по итогам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I</a:t>
            </a:r>
            <a:r>
              <a:rPr b="1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четвер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50" name="Picture 7" descr=""/>
          <p:cNvPicPr/>
          <p:nvPr/>
        </p:nvPicPr>
        <p:blipFill>
          <a:blip r:embed="rId1"/>
          <a:srcRect l="30787" t="23041" r="26915" b="10344"/>
          <a:stretch/>
        </p:blipFill>
        <p:spPr>
          <a:xfrm>
            <a:off x="2411280" y="1174680"/>
            <a:ext cx="48340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Фото на доску почё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Constantia"/>
              </a:rPr>
              <a:t>Мешкова Юл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Constantia"/>
              </a:rPr>
              <a:t>Дупленко Владисла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Constantia"/>
              </a:rPr>
              <a:t>Проченко Арте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Constantia"/>
              </a:rPr>
              <a:t>Левичев Макси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Constantia"/>
              </a:rPr>
              <a:t>Руденец Денис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Constantia"/>
              </a:rPr>
              <a:t>Мамышев Фарид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3" descr=""/>
          <p:cNvPicPr/>
          <p:nvPr/>
        </p:nvPicPr>
        <p:blipFill>
          <a:blip r:embed="rId1"/>
          <a:stretch/>
        </p:blipFill>
        <p:spPr>
          <a:xfrm>
            <a:off x="3956040" y="1262160"/>
            <a:ext cx="4133880" cy="47671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C:\Users\Таня\Pictures\imgpreviewCA8ZRQ7Q.jpg"/>
          <p:cNvPicPr/>
          <p:nvPr/>
        </p:nvPicPr>
        <p:blipFill>
          <a:blip r:embed="rId2"/>
          <a:stretch/>
        </p:blipFill>
        <p:spPr>
          <a:xfrm>
            <a:off x="250920" y="907920"/>
            <a:ext cx="33112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C:\Users\Таня\Pictures\imgpreviewCATL2403.jpg"/>
          <p:cNvPicPr/>
          <p:nvPr/>
        </p:nvPicPr>
        <p:blipFill>
          <a:blip r:embed="rId1"/>
          <a:stretch/>
        </p:blipFill>
        <p:spPr>
          <a:xfrm>
            <a:off x="0" y="549360"/>
            <a:ext cx="3313080" cy="1655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C:\Users\Таня\Pictures\imgpreviewCATW68A3.jpg"/>
          <p:cNvPicPr/>
          <p:nvPr/>
        </p:nvPicPr>
        <p:blipFill>
          <a:blip r:embed="rId2"/>
          <a:stretch/>
        </p:blipFill>
        <p:spPr>
          <a:xfrm>
            <a:off x="0" y="2421000"/>
            <a:ext cx="3276720" cy="2087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C:\Users\Таня\Pictures\imgpreviewCAHQLJ92.jpg"/>
          <p:cNvPicPr/>
          <p:nvPr/>
        </p:nvPicPr>
        <p:blipFill>
          <a:blip r:embed="rId3"/>
          <a:stretch/>
        </p:blipFill>
        <p:spPr>
          <a:xfrm>
            <a:off x="0" y="4581360"/>
            <a:ext cx="3203640" cy="2160720"/>
          </a:xfrm>
          <a:prstGeom prst="rect">
            <a:avLst/>
          </a:prstGeom>
          <a:ln w="0">
            <a:noFill/>
          </a:ln>
        </p:spPr>
      </p:pic>
      <p:sp>
        <p:nvSpPr>
          <p:cNvPr id="458" name="Прямоугольник 6"/>
          <p:cNvSpPr/>
          <p:nvPr/>
        </p:nvSpPr>
        <p:spPr>
          <a:xfrm>
            <a:off x="3780000" y="404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ы выбираем жизнь, они - смер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ы пишем письма, они – предсмертн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ы строим планы на будущее, у них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У них нет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Кажется, что мы и они – из разных м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Но как велика пропасть между н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Читающими эти стро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И тем, кто решился на самоубийст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Как сильно нужно измениться челове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Чтобы сделать этот шаг? Всего лишь -  ш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ни не были рождены самоубийцами, но умер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 этим клей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ни продолжают умирать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астота суицидальных действий среди молодежи, в течение последних двух десятилетий удвоилась. У 30% лиц в возрасте 14 – 24 лет бывают суицидальные мысли, 6% юношей и 10% девушек совершают суицидальные действия. Из общего количества суицидов 90% - совершается людьми с психотическими состояниями и лишь 10% - без психотических расстройств. Некоторые специалисты пишут о том, что в 10% суицидальное поведение имеет цель покончить собой, и в 90% суицидальное поведение подростка – это привлечение к себе вним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1" name="Picture 2" descr="C:\Users\Таня\Pictures\imgpreviewCADH9MG3.jpg"/>
          <p:cNvPicPr/>
          <p:nvPr/>
        </p:nvPicPr>
        <p:blipFill>
          <a:blip r:embed="rId2"/>
          <a:stretch/>
        </p:blipFill>
        <p:spPr>
          <a:xfrm>
            <a:off x="5651640" y="115920"/>
            <a:ext cx="23428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934640"/>
            <a:ext cx="6805440" cy="21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onstantia"/>
              </a:rPr>
              <a:t>Словесные призна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onstantia"/>
              </a:rPr>
              <a:t>Поведенческие призна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onstantia"/>
              </a:rPr>
              <a:t>Ситуационные призна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4" name="Picture 2" descr="C:\Users\Таня\Pictures\Рисунок1.jpg"/>
          <p:cNvPicPr/>
          <p:nvPr/>
        </p:nvPicPr>
        <p:blipFill>
          <a:blip r:embed="rId2"/>
          <a:stretch/>
        </p:blipFill>
        <p:spPr>
          <a:xfrm>
            <a:off x="4788000" y="3429000"/>
            <a:ext cx="36860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Повестка собр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nstantia"/>
              </a:rPr>
              <a:t>Обсуждение нормативной документации по сдаче ГИА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nstantia"/>
              </a:rPr>
              <a:t>обсуждение особенностей подросткового возраста: профилактика суицида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nstantia"/>
              </a:rPr>
              <a:t>обсуждение успеваемости учащихся и посещение  урок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934640"/>
            <a:ext cx="762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, готовящийся совершить самоубийство, часто говорит о своем душевном состоянии. Он или она могут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Прямо и явно говорит о смерти: «Я собираюсь покончить с собой»; «Я не могу так дальше жить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Косвенно намекать о своем намерении: «Я больше не буду ни для кого проблемой»; «Тебе больше не придется обо мне волноваться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Много шутить на тему самоубий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Проявлять нездоровую заинтересованность вопросами смер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7" name="Picture 2" descr="C:\Users\Таня\Pictures\imgpreview.png"/>
          <p:cNvPicPr/>
          <p:nvPr/>
        </p:nvPicPr>
        <p:blipFill>
          <a:blip r:embed="rId2"/>
          <a:stretch/>
        </p:blipFill>
        <p:spPr>
          <a:xfrm>
            <a:off x="6227640" y="77760"/>
            <a:ext cx="2521080" cy="18604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C:\Users\Таня\Pictures\imgpreviewCALF0TF4.jpg"/>
          <p:cNvPicPr/>
          <p:nvPr/>
        </p:nvPicPr>
        <p:blipFill>
          <a:blip r:embed="rId3"/>
          <a:stretch/>
        </p:blipFill>
        <p:spPr>
          <a:xfrm>
            <a:off x="7380360" y="4437000"/>
            <a:ext cx="1539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743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107640" y="1196640"/>
            <a:ext cx="63356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Раздавать другим вещи, имеющие большую личную значимость, окончательно приводить в порядок дела, мириться с давними врагами. 2 Демонстрировать радикальные перемены в поведении, такие, как: в еде - есть слишком мало или слишком много; во сне - спать слишком мало или слишком много; во внешнем виде — стать неряшливы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в школьных привычках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—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пропускать занятия, не выполнять домашние задания, избегать общения с одноклассниками; проявлять раздражительность, угрюмость; находиться в подавленном настроении; замкнуться от семьи и друз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ыть чрезмерно деятельным или, наоборот, безразличным к окружающему миру; ощущать попеременно то внезапную эйфорию, то приступы отчаяния. 3. Проявлять признаки беспомощности, безнадежности и отчая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1" name="Picture 3" descr="C:\Users\Таня\Pictures\imgpreviewCA9NVLHI.jpg"/>
          <p:cNvPicPr/>
          <p:nvPr/>
        </p:nvPicPr>
        <p:blipFill>
          <a:blip r:embed="rId2"/>
          <a:stretch/>
        </p:blipFill>
        <p:spPr>
          <a:xfrm>
            <a:off x="6443640" y="1052640"/>
            <a:ext cx="2416320" cy="1809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C:\Users\Таня\Pictures\imgpreviewCANH4294.jpg"/>
          <p:cNvPicPr/>
          <p:nvPr/>
        </p:nvPicPr>
        <p:blipFill>
          <a:blip r:embed="rId3"/>
          <a:stretch/>
        </p:blipFill>
        <p:spPr>
          <a:xfrm>
            <a:off x="6227640" y="2924280"/>
            <a:ext cx="2665440" cy="1976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C:\Users\Таня\Pictures\imgpreviewCAAXJQRR.jpg"/>
          <p:cNvPicPr/>
          <p:nvPr/>
        </p:nvPicPr>
        <p:blipFill>
          <a:blip r:embed="rId4"/>
          <a:stretch/>
        </p:blipFill>
        <p:spPr>
          <a:xfrm>
            <a:off x="5219640" y="5013360"/>
            <a:ext cx="2952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212760" y="255600"/>
            <a:ext cx="7493040" cy="7318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250560" y="1052280"/>
            <a:ext cx="6275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ловек может решиться на самоубийство, есл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циально изолирован (не имеет друзей или имеет только одного друга), чувствует себя отверженн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ивет в нестабильном окружении (серьезный кризис в семье — в отношениях с родителями или родителей друг с другом; алкоголизм — личная или семейная проблем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щущает себя жертвой насилия - физического сексуального или эмоциональног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дпринимал раньше попытки суици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меет склонность к самоубийству вследствие того, что оно совершалось кое-то из друзей, знакомых или членов семь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енес тяжелую потерю (смерть кого-то из близких, развод родителей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ишком критично настроен по отношению к себ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6" name="Picture 2" descr="C:\Users\Таня\Pictures\imgpreviewCAT59U8K.jpg"/>
          <p:cNvPicPr/>
          <p:nvPr/>
        </p:nvPicPr>
        <p:blipFill>
          <a:blip r:embed="rId2"/>
          <a:stretch/>
        </p:blipFill>
        <p:spPr>
          <a:xfrm>
            <a:off x="6732720" y="1052640"/>
            <a:ext cx="2232000" cy="29811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" descr="C:\Users\Таня\Pictures\imgpreviewCA4MZKYQ.jpg"/>
          <p:cNvPicPr/>
          <p:nvPr/>
        </p:nvPicPr>
        <p:blipFill>
          <a:blip r:embed="rId3"/>
          <a:stretch/>
        </p:blipFill>
        <p:spPr>
          <a:xfrm>
            <a:off x="6372360" y="4437000"/>
            <a:ext cx="27716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7412040" cy="13525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6840" y="1934640"/>
            <a:ext cx="5987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суицидальная попытка как способ попросить помощи (получить внимание, любовь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переживание обиды, одиночества, непоним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любовные неудачи, неразделенные чувства или ревнос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чувство мести, злобы, протест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 подражание героям книг, фильмов, эстрадным кумира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6. страх наказ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7. избежание трудных ситу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0" name="Picture 3" descr="C:\Users\Таня\Pictures\imgpreviewCAC54Q21.jpg"/>
          <p:cNvPicPr/>
          <p:nvPr/>
        </p:nvPicPr>
        <p:blipFill>
          <a:blip r:embed="rId2"/>
          <a:stretch/>
        </p:blipFill>
        <p:spPr>
          <a:xfrm>
            <a:off x="6156360" y="2421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C:\Users\Таня\Pictures\imgpreviewCAMGGS7Y.jpg"/>
          <p:cNvPicPr/>
          <p:nvPr/>
        </p:nvPicPr>
        <p:blipFill>
          <a:blip r:embed="rId3"/>
          <a:stretch/>
        </p:blipFill>
        <p:spPr>
          <a:xfrm>
            <a:off x="6084720" y="4437000"/>
            <a:ext cx="2737080" cy="2070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C:\Users\Таня\Pictures\imgpreviewCAYWEZF8.jpg"/>
          <p:cNvPicPr/>
          <p:nvPr/>
        </p:nvPicPr>
        <p:blipFill>
          <a:blip r:embed="rId4"/>
          <a:stretch/>
        </p:blipFill>
        <p:spPr>
          <a:xfrm>
            <a:off x="6443640" y="333360"/>
            <a:ext cx="2592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Rectangle 9" descr=""/>
          <p:cNvPicPr/>
          <p:nvPr/>
        </p:nvPicPr>
        <p:blipFill>
          <a:blip r:embed="rId1"/>
          <a:stretch/>
        </p:blipFill>
        <p:spPr>
          <a:xfrm>
            <a:off x="396720" y="195120"/>
            <a:ext cx="8161560" cy="8589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пытайтесь  убедить  человека обратиться  к специалистам (психолог, врач, невропатолог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2. Разработайте стратегию  помощи, если человек отказывается от помощи специалист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3. Будьте заинтересованы судьбе этого человека и готовы помочь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4. Оцените его внутренние  резервы – найдите и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5. Позвольте выговариваться – человек почувствует облегче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6. Не  оставляйте  в одиночестве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7. Поддерживайте его и будьте ненавязчиво настойчивы в позитиве - дайте ему эмоциональную  опор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8. Давайте  больше позитивных установок, т.к. в состоянии душевного кризиса нужны строгие утвердительные указа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3"/>
          <p:cNvSpPr/>
          <p:nvPr/>
        </p:nvSpPr>
        <p:spPr>
          <a:xfrm>
            <a:off x="468360" y="1628640"/>
            <a:ext cx="727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.  Будьте компетентны в данном вопросе - соблюдайте такт, терпение, обратитесь за консультацией к специал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0. Убедите его  в  том, что  он  сделал верный  шаг,  приняв  вашу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1. Помогите ему осознать или вспомнить  его  способность  анализировать и воспринимать советы окружа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2. Помогите осознать, что следует   принять во внимание  и другие  возможные источники  помощи: друзей, семью, врачей, священников, муллы к которым  можно обрат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3. Помогите отвлечься от негативных мыслей, что поможет вернуть  душевные силы  и стаби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4. Внушите ему чувство уважения к собственной жизни и к себе сам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5. Примените технику 2 колонок – негатив превратите в пози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4" descr=""/>
          <p:cNvPicPr/>
          <p:nvPr/>
        </p:nvPicPr>
        <p:blipFill>
          <a:blip r:embed="rId1"/>
          <a:stretch/>
        </p:blipFill>
        <p:spPr>
          <a:xfrm>
            <a:off x="225360" y="182520"/>
            <a:ext cx="8467920" cy="12445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493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тянувшаяся депрессия и одиночество становятся опасными, есл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Вы чувствуете враждебность к людям, к которым раньше относились хорошо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У вас нет интереса к чему бы то ни было;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•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аше здоровье существенно подорвано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Вы попадаете в зависимость от лекарств или алкоголя;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•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 избегаете общества и большую часть времени проводите в одиночестве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•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 думаете о самоубийств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9" name="Picture 2" descr="C:\Users\Таня\Pictures\imgpreviewCAJE07Z7.jpg"/>
          <p:cNvPicPr/>
          <p:nvPr/>
        </p:nvPicPr>
        <p:blipFill>
          <a:blip r:embed="rId2"/>
          <a:stretch/>
        </p:blipFill>
        <p:spPr>
          <a:xfrm>
            <a:off x="5003640" y="1446120"/>
            <a:ext cx="4011840" cy="49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Rectangle 2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070840" cy="99396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848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. Внимательно слушать собеседника, так как подростки очень часто страдают от одиночества и не возможности излить перед кем то свою душ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. Правильно формировать вопросы, спокойно и доходчиво расспрашивая о сути тревожащей ситуации и о какая помощь необходим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.  Не выражать удивление от услышанного и не осуждать за любые, самые шокирующие высказыва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4.  не спорить и не настаивать на том, что его беда ничтожна, ему живется лучше других, по сколько высказывания типа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у всех есть такие же проблемы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заставляют ребенка ощущать себя более ненужным и бесполезны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.  Постараться изменить романтико  – трагедийный ореол представлений подростка о собственной смерт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6.  не предлагать не оправданных утешений, поскольку подростки зачастую не способны принять советы, но подчеркнуть временный характер проблем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7.  Привести конструктивные способы ее реше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.  Стремиться вселить в подростка надежду, которая, однако, должна быть реалистичной и направленной на укрепление его сил и возможносте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3" name="Picture 2" descr="C:\Users\Таня\Pictures\imgpreviewCAFL7SGW.jpg"/>
          <p:cNvPicPr/>
          <p:nvPr/>
        </p:nvPicPr>
        <p:blipFill>
          <a:blip r:embed="rId1"/>
          <a:stretch/>
        </p:blipFill>
        <p:spPr>
          <a:xfrm>
            <a:off x="5940360" y="3789360"/>
            <a:ext cx="2273400" cy="2735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Users\Таня\Pictures\Рисунок2.jpg"/>
          <p:cNvPicPr/>
          <p:nvPr/>
        </p:nvPicPr>
        <p:blipFill>
          <a:blip r:embed="rId2"/>
          <a:stretch/>
        </p:blipFill>
        <p:spPr>
          <a:xfrm>
            <a:off x="611280" y="0"/>
            <a:ext cx="7515000" cy="400536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5"/>
          <p:cNvSpPr/>
          <p:nvPr/>
        </p:nvSpPr>
        <p:spPr>
          <a:xfrm>
            <a:off x="611280" y="4365720"/>
            <a:ext cx="48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Aharoni"/>
              </a:rPr>
              <a:t>Остановись на полдоро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Aharoni"/>
              </a:rPr>
              <a:t>Доверься небу, как себ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Aharoni"/>
              </a:rPr>
              <a:t>Подумай – если не о бог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Aharoni"/>
              </a:rPr>
              <a:t>Хотя бы просто о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Заголовок 4" descr=""/>
          <p:cNvPicPr/>
          <p:nvPr/>
        </p:nvPicPr>
        <p:blipFill>
          <a:blip r:embed="rId1"/>
          <a:stretch/>
        </p:blipFill>
        <p:spPr>
          <a:xfrm>
            <a:off x="-128520" y="2401920"/>
            <a:ext cx="887076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На 2013 год Роспотребнадзором определяются сроки проведени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А в новой форм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28 ма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(вт.)- математи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31 ма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(пт.) –история России, обществознание, физика, химия, география, биология, иностранные языки, литература, информати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4 июн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(вт.)- русский язык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7 июн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(пт.)- история России, обществознание, физика, химия, география, биология, иностранные языки, литература, информати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11 июня (вт.)- резервный день: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математика, история России, география, биология, физика, иностранные язык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14 июня (пт.)- резервный день: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русский язык,обществознание, химия, информатика, литератур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Информация для родител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!!! </a:t>
            </a: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До 10 март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сдать окончательный список предметов по сдаче ГИА (2 предмета по выбору ученика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одителям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onstantia"/>
              </a:rPr>
              <a:t>заполнить заявлени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по особому образцу с персональными  данными (осведомление по выбору учащимися предметов по сдаче экзаменов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57120" y="142560"/>
            <a:ext cx="8429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162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Перечень предметов для апробации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03400" indent="-162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усский язык и математика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3400" indent="-162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3400" indent="-162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Физи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3400" indent="-162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Хим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3400" indent="-162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еограф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3400" indent="-162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3400" indent="-162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ществ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3400" indent="-162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ностранный язы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3400" indent="-162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К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3400" indent="-162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357120" y="285840"/>
          <a:ext cx="8215560" cy="6858000"/>
        </p:xfrm>
        <a:graphic>
          <a:graphicData uri="http://schemas.openxmlformats.org/drawingml/2006/table">
            <a:tbl>
              <a:tblPr/>
              <a:tblGrid>
                <a:gridCol w="571680"/>
                <a:gridCol w="714240"/>
                <a:gridCol w="714240"/>
                <a:gridCol w="785880"/>
                <a:gridCol w="1285920"/>
                <a:gridCol w="1285920"/>
                <a:gridCol w="1357200"/>
                <a:gridCol w="1500480"/>
              </a:tblGrid>
              <a:tr h="1434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Четверт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тмет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Годов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тмет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Экзаме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редня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тмет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 аттеста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,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,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,8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,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,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,6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,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,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00"/>
                </a:solidFill>
                <a:latin typeface="Calibri"/>
              </a:rPr>
              <a:t>Шкала баллов за выполнение заданий ГИА по математике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66"/>
                </a:solidFill>
                <a:latin typeface="Constantia"/>
              </a:rPr>
              <a:t>0-7 баллов – </a:t>
            </a:r>
            <a:r>
              <a:rPr b="0" lang="ru-RU" sz="3700" spc="-1" strike="noStrike">
                <a:solidFill>
                  <a:srgbClr val="ff0000"/>
                </a:solidFill>
                <a:latin typeface="Constantia"/>
              </a:rPr>
              <a:t>«2»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66"/>
                </a:solidFill>
                <a:latin typeface="Constantia"/>
              </a:rPr>
              <a:t>8-17 баллов – </a:t>
            </a:r>
            <a:r>
              <a:rPr b="0" lang="ru-RU" sz="3700" spc="-1" strike="noStrike">
                <a:solidFill>
                  <a:srgbClr val="ff0000"/>
                </a:solidFill>
                <a:latin typeface="Constantia"/>
              </a:rPr>
              <a:t>«3»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66"/>
                </a:solidFill>
                <a:latin typeface="Constantia"/>
              </a:rPr>
              <a:t>18-27 – баллов </a:t>
            </a:r>
            <a:r>
              <a:rPr b="0" lang="ru-RU" sz="3700" spc="-1" strike="noStrike">
                <a:solidFill>
                  <a:srgbClr val="ff0000"/>
                </a:solidFill>
                <a:latin typeface="Constantia"/>
              </a:rPr>
              <a:t>«4»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66"/>
                </a:solidFill>
                <a:latin typeface="Constantia"/>
              </a:rPr>
              <a:t>28-36 баллов- </a:t>
            </a:r>
            <a:r>
              <a:rPr b="0" lang="ru-RU" sz="3700" spc="-1" strike="noStrike">
                <a:solidFill>
                  <a:srgbClr val="ff0000"/>
                </a:solidFill>
                <a:latin typeface="Constantia"/>
              </a:rPr>
              <a:t>«5»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Constantia"/>
              </a:rPr>
              <a:t>4 задания</a:t>
            </a:r>
            <a:r>
              <a:rPr b="0" lang="ru-RU" sz="3700" spc="-1" strike="noStrike">
                <a:solidFill>
                  <a:srgbClr val="000066"/>
                </a:solidFill>
                <a:latin typeface="Constantia"/>
              </a:rPr>
              <a:t> из модуля «Алгебра»,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Constantia"/>
              </a:rPr>
              <a:t>2 задания</a:t>
            </a:r>
            <a:r>
              <a:rPr b="0" lang="ru-RU" sz="3700" spc="-1" strike="noStrike">
                <a:solidFill>
                  <a:srgbClr val="000066"/>
                </a:solidFill>
                <a:latin typeface="Constantia"/>
              </a:rPr>
              <a:t> из модуля «Геометрия»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Constantia"/>
              </a:rPr>
              <a:t>2 задания</a:t>
            </a:r>
            <a:r>
              <a:rPr b="0" lang="ru-RU" sz="3700" spc="-1" strike="noStrike">
                <a:solidFill>
                  <a:srgbClr val="000066"/>
                </a:solidFill>
                <a:latin typeface="Constantia"/>
              </a:rPr>
              <a:t> из модуля «Реальная математика»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cc"/>
                </a:solidFill>
                <a:latin typeface="Calibri"/>
              </a:rPr>
              <a:t>Подготовка к ГИА по математике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rcRect l="5844" t="17871" r="11415" b="12788"/>
          <a:stretch/>
        </p:blipFill>
        <p:spPr>
          <a:xfrm rot="21171000">
            <a:off x="684360" y="1125360"/>
            <a:ext cx="2823840" cy="2189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rcRect l="7755" t="17864" r="11328" b="15659"/>
          <a:stretch/>
        </p:blipFill>
        <p:spPr>
          <a:xfrm rot="589800">
            <a:off x="6011640" y="1052640"/>
            <a:ext cx="2824200" cy="2262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3"/>
          <a:srcRect l="7755" t="17864" r="9401" b="20782"/>
          <a:stretch/>
        </p:blipFill>
        <p:spPr>
          <a:xfrm>
            <a:off x="324000" y="3789360"/>
            <a:ext cx="2896920" cy="2519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"/>
          <p:cNvPicPr/>
          <p:nvPr/>
        </p:nvPicPr>
        <p:blipFill>
          <a:blip r:embed="rId4"/>
          <a:srcRect l="7755" t="17864" r="15177" b="20782"/>
          <a:stretch/>
        </p:blipFill>
        <p:spPr>
          <a:xfrm>
            <a:off x="5867280" y="3860640"/>
            <a:ext cx="3113280" cy="2521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"/>
          <p:cNvPicPr/>
          <p:nvPr/>
        </p:nvPicPr>
        <p:blipFill>
          <a:blip r:embed="rId5"/>
          <a:srcRect l="75126" t="51132" r="18389" b="35984"/>
          <a:stretch/>
        </p:blipFill>
        <p:spPr>
          <a:xfrm>
            <a:off x="3780000" y="765000"/>
            <a:ext cx="1800000" cy="2549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"/>
          <p:cNvPicPr/>
          <p:nvPr/>
        </p:nvPicPr>
        <p:blipFill>
          <a:blip r:embed="rId6"/>
          <a:srcRect l="32713" t="15285" r="32628" b="12908"/>
          <a:stretch/>
        </p:blipFill>
        <p:spPr>
          <a:xfrm>
            <a:off x="3564000" y="3429000"/>
            <a:ext cx="2066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8:00:16Z</dcterms:created>
  <dc:creator>Игрок</dc:creator>
  <dc:description/>
  <dc:language>en-US</dc:language>
  <cp:lastModifiedBy>О.Нестеренко</cp:lastModifiedBy>
  <dcterms:modified xsi:type="dcterms:W3CDTF">2013-03-19T06:35:40Z</dcterms:modified>
  <cp:revision>96</cp:revision>
  <dc:subject/>
  <dc:title>Слайд 1</dc:title>
</cp:coreProperties>
</file>